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30A-8124-4349-B060-5A856492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830-BD6C-4694-8DD3-D344FB1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CB8-277F-4765-8E56-83956EA3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3AD-94D6-463B-BF2C-970B79FC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E63-51BC-445F-AD10-A32F6157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107-EC94-4579-94C8-A3B9FB5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80E-53F3-4112-8657-44A6E7A6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0E6-0810-4A0E-886F-D8233AA0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926-F19A-4807-B1B7-D7A0E383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F5A-A103-4AE6-B9C3-CE729A9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E2E-D656-4862-B3C8-B72CB93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71C-B247-4E74-9664-F0669DB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BC57A-1478-4F77-94F6-05D45E22E6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7AE65-997F-4A67-A8D7-BC86DFE3F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the products in this equati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+ 2 O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KCl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KCl + 3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KOH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12Rb + 2NO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6Rb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O + N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2. Foldable Not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ading pg 106-10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3. Classification Gam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able - Out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397160"/>
          <a:ext cx="8920080" cy="4473360"/>
        </p:xfrm>
        <a:graphic>
          <a:graphicData uri="http://schemas.openxmlformats.org/drawingml/2006/table">
            <a:tbl>
              <a:tblPr/>
              <a:tblGrid>
                <a:gridCol w="2973240"/>
                <a:gridCol w="2973600"/>
                <a:gridCol w="2973240"/>
              </a:tblGrid>
              <a:tr h="365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ynthes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composi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place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5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9.2 Chemical      Reaction 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Dodecagon 6"/>
          <p:cNvSpPr/>
          <p:nvPr/>
        </p:nvSpPr>
        <p:spPr>
          <a:xfrm>
            <a:off x="8109000" y="527832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decagon 7"/>
          <p:cNvSpPr/>
          <p:nvPr/>
        </p:nvSpPr>
        <p:spPr>
          <a:xfrm>
            <a:off x="795240" y="5278320"/>
            <a:ext cx="36684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decagon 8"/>
          <p:cNvSpPr/>
          <p:nvPr/>
        </p:nvSpPr>
        <p:spPr>
          <a:xfrm>
            <a:off x="4143240" y="5294160"/>
            <a:ext cx="366840" cy="351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2400" y="214200"/>
          <a:ext cx="8920080" cy="6643800"/>
        </p:xfrm>
        <a:graphic>
          <a:graphicData uri="http://schemas.openxmlformats.org/drawingml/2006/table">
            <a:tbl>
              <a:tblPr/>
              <a:tblGrid>
                <a:gridCol w="2973240"/>
                <a:gridCol w="2973240"/>
                <a:gridCol w="2973600"/>
              </a:tblGrid>
              <a:tr h="29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9.2 Chemical      Reaction 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Dodecagon 6"/>
          <p:cNvSpPr/>
          <p:nvPr/>
        </p:nvSpPr>
        <p:spPr>
          <a:xfrm>
            <a:off x="8185320" y="631836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decagon 7"/>
          <p:cNvSpPr/>
          <p:nvPr/>
        </p:nvSpPr>
        <p:spPr>
          <a:xfrm>
            <a:off x="871560" y="6318360"/>
            <a:ext cx="36684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decagon 8"/>
          <p:cNvSpPr/>
          <p:nvPr/>
        </p:nvSpPr>
        <p:spPr>
          <a:xfrm>
            <a:off x="4219560" y="633420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assify the following as synthesis, decomposition, or replacement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2POCl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2PCl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4 Fe + 3 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2 Fe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 Al +  3 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22:35:14Z</dcterms:created>
  <dc:creator>Caroline Roth</dc:creator>
  <dc:description/>
  <dc:language>en-US</dc:language>
  <cp:lastModifiedBy>Caroline Roth</cp:lastModifiedBy>
  <dcterms:modified xsi:type="dcterms:W3CDTF">2011-04-07T22:32:42Z</dcterms:modified>
  <cp:revision>3</cp:revision>
  <dc:subject/>
  <dc:title>Do Now</dc:title>
</cp:coreProperties>
</file>